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96BE-85B5-4539-A7BE-E39E417C5F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45EC-FD5B-461D-8733-6E597ED478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2D9A-2884-4848-BCC9-3E9AD70EB4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6A14-BB49-4269-822D-2BECA47A08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E9E6-D621-47A6-8DAB-ED93ED427C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21CF-D350-4C95-9A0F-40928D6712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3673440"/>
            <a:ext cx="54356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7710-BE9E-411F-80BA-3CFA4499C8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4DC-E902-40E8-8C8C-0F4332AA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119-198D-4810-B248-14854AEA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A46-3253-4659-B927-A26D2D30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99E-A5B2-4147-8D70-9C555208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F0E-0B78-49A7-9475-40C6840C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383-E255-4251-82D9-8F38E619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1B4-A93D-4A00-9EDD-A82F5601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76F-E937-4F6F-BE22-D389BC66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EF2-25D6-421D-A9B1-04756333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36F-8FDE-4598-B11D-9FD02EA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735-D0FD-4F98-A4EB-EF75B1B6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AB1-8C29-4C22-8AEE-97C71043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FF46-193C-44BA-9425-CDC1EB2C478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85" name="Přímá spojnice se šipkou 4"/>
          <p:cNvCxnSpPr>
            <a:stCxn id="86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 v posledním monitorovacím (sledovaném)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8"/>
          <p:cNvSpPr/>
          <p:nvPr/>
        </p:nvSpPr>
        <p:spPr>
          <a:xfrm>
            <a:off x="3419640" y="4797360"/>
            <a:ext cx="7207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nice se šipkou 11"/>
          <p:cNvCxnSpPr/>
          <p:nvPr/>
        </p:nvCxnSpPr>
        <p:spPr>
          <a:xfrm flipH="1" flipV="1">
            <a:off x="3419280" y="3789360"/>
            <a:ext cx="1584720" cy="1440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0" y="692280"/>
            <a:ext cx="4182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, pokud bude u VŘ pouze jeden dodavatel. Pokud bude více dodavatelů, příjemce bude vyplňovat pole na záložce Detaily k VŘ ručně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824360" cy="496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Přímá spojnice se šipkou 5"/>
          <p:cNvCxnSpPr>
            <a:stCxn id="114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Nová záložka od 2. 7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&gt;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dvojitých šip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43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77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6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tretch/>
        </p:blipFill>
        <p:spPr>
          <a:xfrm>
            <a:off x="6443640" y="2354400"/>
            <a:ext cx="762120" cy="333360"/>
          </a:xfrm>
          <a:prstGeom prst="rect">
            <a:avLst/>
          </a:prstGeom>
          <a:ln w="0">
            <a:noFill/>
          </a:ln>
        </p:spPr>
      </p:pic>
      <p:cxnSp>
        <p:nvCxnSpPr>
          <p:cNvPr id="169" name="Přímá spojnice se šipkou 3"/>
          <p:cNvCxnSpPr>
            <a:stCxn id="168" idx="1"/>
          </p:cNvCxnSpPr>
          <p:nvPr/>
        </p:nvCxnSpPr>
        <p:spPr>
          <a:xfrm flipH="1">
            <a:off x="2245680" y="2521080"/>
            <a:ext cx="4197960" cy="2853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Přímá spojnice se šipkou 3"/>
          <p:cNvCxnSpPr>
            <a:stCxn id="174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194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96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Přímá spojnice se šipkou 7"/>
          <p:cNvCxnSpPr>
            <a:endCxn id="196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12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4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7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lizac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33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34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nice se šipkou 5"/>
          <p:cNvCxnSpPr>
            <a:stCxn id="238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0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48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54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197000"/>
          <a:ext cx="676260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604880"/>
                <a:gridCol w="173664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9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1"/>
          <p:cNvSpPr/>
          <p:nvPr/>
        </p:nvSpPr>
        <p:spPr>
          <a:xfrm>
            <a:off x="250920" y="1916280"/>
            <a:ext cx="1152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ukovská Jiřina (MPSV)</cp:lastModifiedBy>
  <cp:lastPrinted>2012-04-23T10:38:10Z</cp:lastPrinted>
  <dcterms:modified xsi:type="dcterms:W3CDTF">2012-12-11T06:49:25Z</dcterms:modified>
  <cp:revision>441</cp:revision>
  <dc:subject/>
  <dc:title>Snímek 1</dc:title>
</cp:coreProperties>
</file>